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548E-177E-4841-8764-A0007E94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1122-C9BB-44C1-A27E-6A1285D04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F27-1AA2-4571-BB53-40E58D4D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413-2C81-4B27-B9F0-78A2D260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5D9-31B2-44F3-81DC-32B12F40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23D-BE00-47F7-BC6C-2EF9555A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15D-C6EF-4A31-A063-870EB5F7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20F-1B9C-47A5-9660-D2D9B527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E0E-45B7-4692-AF28-D8402185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873-331D-4366-BF24-B746964C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85B-8366-474B-88F1-A16B7188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3FD-0E98-44A8-ABED-5298ACB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DFA-D070-451B-8691-36E46274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3C7-5B53-4EA6-9491-B4C78E2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25C7-EF9C-446F-A64F-6F0D7FC9A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1.jpeg"/><Relationship Id="rId11" Type="http://schemas.openxmlformats.org/officeDocument/2006/relationships/image" Target="../media/image4.jpeg"/><Relationship Id="rId12" Type="http://schemas.openxmlformats.org/officeDocument/2006/relationships/image" Target="../media/image3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427040" y="60022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781200" y="6019920"/>
            <a:ext cx="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447920" y="51814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68760" y="3813120"/>
            <a:ext cx="4572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Gracias, Niall! Él es lindo. Eres bueno. Amas tu cabello. Quiero vivir en Londre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o tiene helado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: 10 second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195720"/>
            <a:ext cx="4572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¿Dónde está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? todos ellos están aquí! Tenemo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ado.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iero vivir en lond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ambién. Su helado es agradab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90920"/>
            <a:ext cx="4562640" cy="5126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Carmel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ndo estamos va para rato?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Nuestra amigos tiene un gato. ¿Por qué no estás aquí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remos vivirlondres en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 : Commentario:      1 hour ag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495680"/>
            <a:ext cx="4572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Ella es bonita, cómico, Inteligente, y enérgica! De nada.tu quiernes vives en Londr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6483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¡Buenas tardes! estoy bien y tu?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ngo que hacer los deberes.:/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iero helado.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42 minute 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572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1 hour ago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♡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232200" y="592452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C:\Documents and Settings\Beth\Desktop\291718_3499100816440_1116569674_n.jpg"/>
          <p:cNvPicPr/>
          <p:nvPr/>
        </p:nvPicPr>
        <p:blipFill>
          <a:blip r:embed="rId1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-1.png"/>
          <p:cNvPicPr/>
          <p:nvPr/>
        </p:nvPicPr>
        <p:blipFill>
          <a:blip r:embed="rId2"/>
          <a:stretch/>
        </p:blipFill>
        <p:spPr>
          <a:xfrm>
            <a:off x="1427040" y="558000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63746_3814720258609_1445561697_n.jpeg"/>
          <p:cNvPicPr/>
          <p:nvPr/>
        </p:nvPicPr>
        <p:blipFill>
          <a:blip r:embed="rId3"/>
          <a:stretch/>
        </p:blipFill>
        <p:spPr>
          <a:xfrm>
            <a:off x="838080" y="4724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3393_449325755108868_272922463_n.jpeg"/>
          <p:cNvPicPr/>
          <p:nvPr/>
        </p:nvPicPr>
        <p:blipFill>
          <a:blip r:embed="rId4"/>
          <a:stretch/>
        </p:blipFill>
        <p:spPr>
          <a:xfrm>
            <a:off x="1447920" y="4740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Photo on 12-4-12 at 9.00 AM #2.jpg"/>
          <p:cNvPicPr/>
          <p:nvPr/>
        </p:nvPicPr>
        <p:blipFill>
          <a:blip r:embed="rId5"/>
          <a:srcRect l="67230" t="27732" r="-836" b="26892"/>
          <a:stretch/>
        </p:blipFill>
        <p:spPr>
          <a:xfrm>
            <a:off x="839880" y="5562720"/>
            <a:ext cx="50796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0"/>
          <p:cNvSpPr/>
          <p:nvPr/>
        </p:nvSpPr>
        <p:spPr>
          <a:xfrm>
            <a:off x="2851560" y="6095880"/>
            <a:ext cx="41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¡Buenos días! Añádeme como amigo? ¿Cómo estás?Somos es bon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1"/>
          <p:cNvSpPr/>
          <p:nvPr/>
        </p:nvSpPr>
        <p:spPr>
          <a:xfrm>
            <a:off x="6708600" y="6019920"/>
            <a:ext cx="7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2" descr="-1.png"/>
          <p:cNvPicPr/>
          <p:nvPr/>
        </p:nvPicPr>
        <p:blipFill>
          <a:blip r:embed="rId6"/>
          <a:stretch/>
        </p:blipFill>
        <p:spPr>
          <a:xfrm>
            <a:off x="2157480" y="6094440"/>
            <a:ext cx="512640" cy="38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C:\Documents and Settings\Beth\Desktop\291718_3499100816440_1116569674_n.jpg"/>
          <p:cNvPicPr/>
          <p:nvPr/>
        </p:nvPicPr>
        <p:blipFill>
          <a:blip r:embed="rId7"/>
          <a:stretch/>
        </p:blipFill>
        <p:spPr>
          <a:xfrm>
            <a:off x="2165400" y="528948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imgres.jpeg"/>
          <p:cNvPicPr/>
          <p:nvPr/>
        </p:nvPicPr>
        <p:blipFill>
          <a:blip r:embed="rId8"/>
          <a:stretch/>
        </p:blipFill>
        <p:spPr>
          <a:xfrm>
            <a:off x="228600" y="4721400"/>
            <a:ext cx="442800" cy="4554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48400" y="517356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4" descr="imgres.jpeg"/>
          <p:cNvPicPr/>
          <p:nvPr/>
        </p:nvPicPr>
        <p:blipFill>
          <a:blip r:embed="rId9"/>
          <a:stretch/>
        </p:blipFill>
        <p:spPr>
          <a:xfrm>
            <a:off x="2133720" y="4495680"/>
            <a:ext cx="442800" cy="45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C:\Documents and Settings\Beth\Desktop\291718_3499100816440_1116569674_n.jpg"/>
          <p:cNvPicPr/>
          <p:nvPr/>
        </p:nvPicPr>
        <p:blipFill>
          <a:blip r:embed="rId10"/>
          <a:stretch/>
        </p:blipFill>
        <p:spPr>
          <a:xfrm>
            <a:off x="2133720" y="3886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6709680" y="51814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708960" y="4419720"/>
            <a:ext cx="69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6603840" y="3795840"/>
            <a:ext cx="70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3393_449325755108868_272922463_n.jpeg"/>
          <p:cNvPicPr/>
          <p:nvPr/>
        </p:nvPicPr>
        <p:blipFill>
          <a:blip r:embed="rId11"/>
          <a:stretch/>
        </p:blipFill>
        <p:spPr>
          <a:xfrm>
            <a:off x="2192400" y="3240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63746_3814720258609_1445561697_n.jpeg"/>
          <p:cNvPicPr/>
          <p:nvPr/>
        </p:nvPicPr>
        <p:blipFill>
          <a:blip r:embed="rId12"/>
          <a:stretch/>
        </p:blipFill>
        <p:spPr>
          <a:xfrm>
            <a:off x="2149560" y="2519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8" descr="C:\Documents and Settings\Beth\Desktop\598555_198774986914112_124519432_n.jpg"/>
          <p:cNvPicPr/>
          <p:nvPr/>
        </p:nvPicPr>
        <p:blipFill>
          <a:blip r:embed="rId13"/>
          <a:stretch/>
        </p:blipFill>
        <p:spPr>
          <a:xfrm>
            <a:off x="277920" y="5562720"/>
            <a:ext cx="37764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9:32Z</dcterms:created>
  <dc:creator>FriscoISD</dc:creator>
  <dc:description/>
  <dc:language>en-US</dc:language>
  <cp:lastModifiedBy>User</cp:lastModifiedBy>
  <dcterms:modified xsi:type="dcterms:W3CDTF">2013-01-02T13:58:45Z</dcterms:modified>
  <cp:revision>116</cp:revision>
  <dc:subject/>
  <dc:title>Profile</dc:title>
</cp:coreProperties>
</file>